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4C152-2B8A-4377-97C5-E90FB4B380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2C199-E03A-4FA7-A4E4-7F905238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0841F-E828-4BD6-B4B5-40D690B0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2D34A-9A0C-4862-A436-DC78451A82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4ED9A-C1B9-445D-94AC-6E4007FC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6CA3B-F950-458D-B9D7-34807324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15274-5D48-4852-BBCF-A7F55E0B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3C464-8513-4D9B-ADF5-AC809312C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C4B47-74E4-4E39-A37F-A87291C7E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3F9A2-2906-4ADD-B13A-F5314090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F54F4-05D4-4087-B29B-DEE7EF31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D1E1D-AF23-4974-BB04-D70BA620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7737-5678-4661-9104-A11C0559D02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42100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隶书"/>
                <a:ea typeface="华文隶书"/>
              </a:rPr>
              <a:t>抗病毒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Franklin Gothic Book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713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又名无环鸟苷。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【作用特点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竞争性抑制病毒的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多聚酶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阻断病毒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的合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对Ⅰ型和Ⅱ型单纯疱疹病毒作用最强，对水痘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带状疱疹病毒及乙型肝炎病毒也有一定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口服吸收差。血浆蛋白结合率很低，易透过生物膜，脑脊液中药物浓度可达血药浓度的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右箭头 1"/>
          <p:cNvSpPr/>
          <p:nvPr/>
        </p:nvSpPr>
        <p:spPr>
          <a:xfrm flipV="1">
            <a:off x="5219640" y="2564640"/>
            <a:ext cx="432000" cy="14292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1628640"/>
            <a:ext cx="829944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【临床应用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一）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首选用于单纯疱疹病毒Ⅰ、Ⅱ型感染</a:t>
            </a:r>
            <a:r>
              <a:rPr b="0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皮肤、粘膜疱疹、生殖器疱疹、单纯疱疹脑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二）防治带状疱疹病毒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三）与免疫调节剂（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α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干扰素）联用治疗乙型肝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6280" y="1628640"/>
            <a:ext cx="721980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【不良反应和药疗监护须知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550"/>
              </a:spcBef>
              <a:buClr>
                <a:srgbClr val="046ca6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华文楷体"/>
                <a:ea typeface="华文楷体"/>
              </a:rPr>
              <a:t>不良反应少：偶有头晕、头痛；呕吐；斑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550"/>
              </a:spcBef>
              <a:buClr>
                <a:srgbClr val="046ca6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华文楷体"/>
                <a:ea typeface="华文楷体"/>
              </a:rPr>
              <a:t>静滴给药：偶见可逆性肾功能紊乱（血尿素及肌酐水平升高）、静脉炎等。也可出现神经毒性（震颤、谵妄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（二）药疗监护须知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静脉滴注给药时，嘱患者大量饮水，以避免血尿素及肌酐升高；肾功能减退者慎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经常更换注射部位，以防发生血栓性静脉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霜剂可有一过性烧灼感或疼痛，小部分有皮疹、轻度干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少数患者用眼膏后有一过性轻度疼痛，但不必终止治疗，愈后无明显后遗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Franklin Gothic Medium"/>
                <a:ea typeface="隶书"/>
              </a:rPr>
              <a:t>其他抗病毒药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1280" y="939960"/>
          <a:ext cx="9002880" cy="5559120"/>
        </p:xfrm>
        <a:graphic>
          <a:graphicData uri="http://schemas.openxmlformats.org/drawingml/2006/table">
            <a:tbl>
              <a:tblPr/>
              <a:tblGrid>
                <a:gridCol w="2162160"/>
                <a:gridCol w="4007160"/>
                <a:gridCol w="2833560"/>
              </a:tblGrid>
              <a:tr h="412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药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特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利巴韦林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ribaviri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又称三唑核苷、病毒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广谱抗病毒药，既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病毒，也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R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病毒。临床用于防治流感、腺病毒肺炎、甲型肝炎、疱疹及麻疹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胃肠道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中枢神经系统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溶血性贫血和骨髓功能抑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68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金刚烷胺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amanta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阻止病毒进入宿主细胞并抑制其复制。用于甲型流感的预防和早期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胃肠道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中枢神经系统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致畸胎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7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齐多夫定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zidovu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，叠氮胸苷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是一种逆转录酶抑制剂，艾滋病治疗首选药物，可改善临床症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有头痛、肝毒性，停药可恢复，骨髓移植：白细胞减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38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膦甲酸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foscarnet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选择性作用于病毒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多聚酶而抑制病毒生长。用于治疗巨细胞病毒性视网膜炎、肺炎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：可产生严重的肾毒性，其他包括电解质紊乱、癫痫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68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奥司他韦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oseltamivir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抑制新形成的病毒颗粒从被染细胞释放而阻止病毒在体内的传播。主要用于流行性感冒的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主要是消化道症状，还可出现咳嗽、眩晕、头痛、失眠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82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碘苷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doxuri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又称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疱疹净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全身应用毒性大，仅局部应用治疗单纯疱疹病毒性角膜炎及其他疱疹性眼病效果较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：可引起瘙痒症，局部刺激疼痛，眼部轻微水肿，不宜长期应用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53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干扰素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nterfero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F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具有广谱抗病毒活性，亦具有免疫调节及抗肿瘤作用，主要用于治疗各型慢性病毒性乙型肝炎、带状疱疹，还用于恶性肿瘤的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有流感样综合征，白细胞减少，血小板减少及转氨酶升高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19:36Z</dcterms:modified>
  <cp:revision>2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